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120-8E39-475E-9018-F1BC824D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9E4E-002E-4408-AA12-5D861B0C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D128-AC9F-405A-9AD8-0E06A494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F957-538B-4B02-939F-1825C2DF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59B8-BB5A-4417-BA79-CD0E0BC2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E3DE-047A-4096-9758-DBE76E8A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74C5-BA09-412F-942D-D7EA961A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6A43-72FC-4E72-842E-15B653C7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D7A5-871B-493D-91B7-1788FD9E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22D8-C6AE-46A3-8122-6859B451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A4AF-EA25-4CC4-A198-75485F5F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CE8-6B47-45CF-A8B6-E9197D36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6313-36A8-4EBB-8E8E-039CB6A2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E75E-2855-41CA-944C-50434AF9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4FBE-2741-4540-A05F-16D34E90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F784-97FC-4205-963D-E928FC52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8294-182B-4656-9435-FE5F2DBB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844-7837-49EE-9A43-9A0B43CA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D6B5-5AD9-451E-B4CE-CE9E6D8D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DA25-ADEF-4431-8F12-F60239EA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BCA4-EBDB-4ECA-A237-45F4BD92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44E4-B871-40A5-8C7F-875F37FC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546F-4EF1-424F-975F-D06090B5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79E-25C7-4231-866E-4B8F552F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3AD3-82DB-4513-9B07-890CBA23159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BF90-BD51-4836-A234-E74B2E3BE6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-6480" y="566640"/>
            <a:ext cx="9156960" cy="5919840"/>
            <a:chOff x="-6480" y="566640"/>
            <a:chExt cx="9156960" cy="591984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-6480" y="56664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" name="Picture 7" descr="EMRM-042"/>
          <p:cNvPicPr/>
          <p:nvPr/>
        </p:nvPicPr>
        <p:blipFill>
          <a:blip r:embed="rId4"/>
          <a:stretch/>
        </p:blipFill>
        <p:spPr>
          <a:xfrm>
            <a:off x="7162920" y="5835600"/>
            <a:ext cx="1981080" cy="10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Line 9"/>
          <p:cNvSpPr/>
          <p:nvPr/>
        </p:nvSpPr>
        <p:spPr>
          <a:xfrm>
            <a:off x="2209680" y="6324480"/>
            <a:ext cx="4953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0" descr="LogoE"/>
          <p:cNvPicPr/>
          <p:nvPr/>
        </p:nvPicPr>
        <p:blipFill>
          <a:blip r:embed="rId5">
            <a:lum bright="100000"/>
          </a:blip>
          <a:stretch/>
        </p:blipFill>
        <p:spPr>
          <a:xfrm>
            <a:off x="0" y="5927760"/>
            <a:ext cx="2209680" cy="85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6FFB-0202-445C-8D15-19A9770853E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077C-414E-42E3-813B-5362AD628B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le 1"/>
          <p:cNvSpPr/>
          <p:nvPr/>
        </p:nvSpPr>
        <p:spPr>
          <a:xfrm>
            <a:off x="304920" y="114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pacity Building Works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Introduction to Economic Evaluation with Special Application to Non-Communicable Diseas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44197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O – EM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iro, Egypt, 16-18 December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orkshop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urpos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the Workshop is to build national research capacities in the area of Economic Evaluation of health program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 the end of the workshop, you will be able t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fundamenta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urpo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economic evalu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guish the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yp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Economic Evalu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able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Evaluation results to aid priorit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914400"/>
          <a:ext cx="9144000" cy="6188040"/>
        </p:xfrm>
        <a:graphic>
          <a:graphicData uri="http://schemas.openxmlformats.org/drawingml/2006/table">
            <a:tbl>
              <a:tblPr/>
              <a:tblGrid>
                <a:gridCol w="1392120"/>
                <a:gridCol w="3484800"/>
                <a:gridCol w="2133360"/>
                <a:gridCol w="93960"/>
                <a:gridCol w="2039760"/>
              </a:tblGrid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8:30-10: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eneral introduction to Health Economic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E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B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0:30-11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ffee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1:00-13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ntroduction to Economic Evalua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E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B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3:00-14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ch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4:00-15: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ost Analysi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U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lenary Discuss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&amp;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losu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5:30-16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ffee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6:00-17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 on Cost Analysi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U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4" name="Rectangle 7"/>
          <p:cNvSpPr/>
          <p:nvPr/>
        </p:nvSpPr>
        <p:spPr>
          <a:xfrm>
            <a:off x="0" y="914400"/>
            <a:ext cx="9144000" cy="6019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matariaa</cp:lastModifiedBy>
  <dcterms:modified xsi:type="dcterms:W3CDTF">2012-12-16T05:57:58Z</dcterms:modified>
  <cp:revision>535</cp:revision>
  <dc:subject/>
  <dc:title>Slide 1</dc:title>
</cp:coreProperties>
</file>